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wmf" ContentType="image/x-wmf"/>
  <Override PartName="/ppt/media/image4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3.png" ContentType="image/png"/>
  <Override PartName="/ppt/media/image1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6457-0B76-43C9-B269-933421DCD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5708-254B-4FC6-80C0-90A97AF48C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5D25-46C6-4D04-925C-C02AF9A2171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E913-B57C-4879-BD8A-6874E2D8809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92F98-54B0-4F2E-9521-A069946F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A9594-4427-44EF-9CBE-0BD51985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25CAC-F2FF-497B-8A51-AA7EC491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15630-79E6-4837-B493-8B14313D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3EA73-5B1C-4FFF-B8DC-3CB42159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5426C-A730-4F57-8D41-8553C360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8A472-B0BA-450E-8548-D8A56544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FAB99-2E6B-4E96-A11A-E77CD2B25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1FCDB-FD84-4DF6-8C67-F808150DB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4003-F03A-4138-938C-15F69C2D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20C3-BEFE-4F40-B447-4DA62BAD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CD1F-2F8E-4820-B47C-D39BEA94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8008-FAD0-4852-90FE-F7AF040E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A4C0-139B-423C-9C83-E1C9A17F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EF9C-427C-49BC-9766-B0A66490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D913-E90F-4474-94B6-3F2BF0A8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361E-8CAC-4147-A0CA-BE3FCF47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F97A-94EA-439A-ACE9-37F49CEF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EC31-E5D9-4E1E-9363-BA08350C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2230-AF57-4D6A-80EB-C2F2DB7C6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5722-A51E-4229-A524-69E05ECF4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3DC5-E920-47A6-B78A-D053AA3BA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E650-42D8-41F9-9FB4-09DD9272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C578-5A09-467B-A5DB-AEC00F3F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365B-513E-408A-9B8E-FA627079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E5D2-101D-43A7-8237-174504FA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63AF-D12E-440D-8CB6-90D3DEE6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2E02-C1E4-49C9-9FB3-137E3C0E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3D76-341A-4C51-AC9B-BED6145D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43D4-9E8A-4125-BF55-FCC8CD22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30C3-CB84-449A-8D1E-B6C9DB90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39AC-829C-495D-97AD-2AE5121D6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2B2C-D099-4259-9928-C68A89F5E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765CD-D5B9-41CA-9552-A2C365989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3FECA-9189-4B57-BA7D-5971CB13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55A5C-9E18-4970-A910-8757A839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3" name="TextBox 2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5" name="Picture 5" descr=""/>
            <p:cNvPicPr/>
            <p:nvPr/>
          </p:nvPicPr>
          <p:blipFill>
            <a:blip r:embed="rId4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12" descr="P:\logos\i\ifpri\IFPRI_Logo_Standard.jpg"/>
            <p:cNvPicPr/>
            <p:nvPr/>
          </p:nvPicPr>
          <p:blipFill>
            <a:blip r:embed="rId5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7" descr="P:\logos\i\iita\IITA_regular-sienna_with slogan (2).JPG"/>
            <p:cNvPicPr/>
            <p:nvPr/>
          </p:nvPicPr>
          <p:blipFill>
            <a:blip r:embed="rId6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8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9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50" name="Picture 10" descr="P:\Pictures&amp;Resources\Icons\by-nc-sa.png"/>
            <p:cNvPicPr/>
            <p:nvPr/>
          </p:nvPicPr>
          <p:blipFill>
            <a:blip r:embed="rId7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1" name="Picture 11" descr=""/>
          <p:cNvPicPr/>
          <p:nvPr/>
        </p:nvPicPr>
        <p:blipFill>
          <a:blip r:embed="rId8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9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470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3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474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75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6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6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517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0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521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2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3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05DD-52B4-40E4-8244-9B7BBD3929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6E5A-A711-4AFC-A99E-C012471DD2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7FBA-BFA3-4B4D-B94C-BA7CBE2448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437760" y="1143000"/>
            <a:ext cx="792468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101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752120" y="4105440"/>
            <a:ext cx="5735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/Coordin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 Placeholder 2"/>
          <p:cNvSpPr/>
          <p:nvPr/>
        </p:nvSpPr>
        <p:spPr>
          <a:xfrm>
            <a:off x="2286000" y="3325680"/>
            <a:ext cx="4575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Overview of Project Achieve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 Placeholder 2"/>
          <p:cNvSpPr/>
          <p:nvPr/>
        </p:nvSpPr>
        <p:spPr>
          <a:xfrm>
            <a:off x="2112840" y="5335560"/>
            <a:ext cx="4575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Calibri"/>
              </a:rPr>
              <a:t>July 3, 201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What has got us here?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58640" y="2343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PGothic"/>
              </a:rPr>
              <a:t>Mutual benefit of the partnership (do we need each other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PGothic"/>
              </a:rPr>
              <a:t>Committed team memb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What has got us here?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58640" y="2343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PGothic"/>
              </a:rPr>
              <a:t>Unwavering support of local institutions esp. district counci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PGothic"/>
              </a:rPr>
              <a:t>The do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3656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What needs to be enhanced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762120" y="2057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R-in-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alibri"/>
              </a:rPr>
              <a:t>backstopping/addressing challenges identified during scaling processes that need scientific/research attention (e.g. measuring spillovers; integration of RPO/CBT models, operationalization of adoption in SI interventions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Documentation and lesson sha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alibri"/>
              </a:rPr>
              <a:t>CLA platform (USAI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alibri"/>
              </a:rPr>
              <a:t>CoPs (Africa RISING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What needs to be enhanced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4191120" y="1980720"/>
            <a:ext cx="49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3. Deeper engagement with local government instit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Calibri"/>
              </a:rPr>
              <a:t>Capacity needs assess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Calibri"/>
              </a:rPr>
              <a:t>Capacity buil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Sustain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4. Mobilizing NGOs and the private sector for a bigger r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5.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MS PGothic"/>
              </a:rPr>
              <a:t>Youth, VBAAs, other community-based a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5" name="Content Placeholder 4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358128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1" descr="Horizontal_CMYK_600"/>
          <p:cNvPicPr/>
          <p:nvPr/>
        </p:nvPicPr>
        <p:blipFill>
          <a:blip r:embed="rId1"/>
          <a:stretch/>
        </p:blipFill>
        <p:spPr>
          <a:xfrm>
            <a:off x="2386080" y="1447920"/>
            <a:ext cx="3728880" cy="10666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2" descr=""/>
          <p:cNvPicPr/>
          <p:nvPr/>
        </p:nvPicPr>
        <p:blipFill>
          <a:blip r:embed="rId2"/>
          <a:stretch/>
        </p:blipFill>
        <p:spPr>
          <a:xfrm>
            <a:off x="1066680" y="4343400"/>
            <a:ext cx="3813120" cy="98568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2" descr="C:\Users\user\Desktop\URGENT TASKS\Coat_of_arms_of_Tanzania.svg.png"/>
          <p:cNvPicPr/>
          <p:nvPr/>
        </p:nvPicPr>
        <p:blipFill>
          <a:blip r:embed="rId3"/>
          <a:stretch/>
        </p:blipFill>
        <p:spPr>
          <a:xfrm>
            <a:off x="5943600" y="3505320"/>
            <a:ext cx="251460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1066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Gill Sans"/>
              </a:rPr>
              <a:t>CGIAR/IARC Partners</a:t>
            </a:r>
            <a:endParaRPr b="0" lang="en-US" sz="4000" spc="-1" strike="noStrike">
              <a:solidFill>
                <a:srgbClr val="323232"/>
              </a:solidFill>
              <a:latin typeface="Calibri"/>
            </a:endParaRPr>
          </a:p>
        </p:txBody>
      </p:sp>
      <p:grpSp>
        <p:nvGrpSpPr>
          <p:cNvPr id="610" name="Group 1"/>
          <p:cNvGrpSpPr/>
          <p:nvPr/>
        </p:nvGrpSpPr>
        <p:grpSpPr>
          <a:xfrm>
            <a:off x="990720" y="3429000"/>
            <a:ext cx="7056360" cy="2401920"/>
            <a:chOff x="990720" y="3429000"/>
            <a:chExt cx="7056360" cy="2401920"/>
          </a:xfrm>
        </p:grpSpPr>
        <p:pic>
          <p:nvPicPr>
            <p:cNvPr id="611" name="Picture 2" descr=""/>
            <p:cNvPicPr/>
            <p:nvPr/>
          </p:nvPicPr>
          <p:blipFill>
            <a:blip r:embed="rId1"/>
            <a:stretch/>
          </p:blipFill>
          <p:spPr>
            <a:xfrm>
              <a:off x="990720" y="4590720"/>
              <a:ext cx="1066680" cy="115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11" descr="P:\logos\c\cimmyt\CIMMYT Logo.jpg"/>
            <p:cNvPicPr/>
            <p:nvPr/>
          </p:nvPicPr>
          <p:blipFill>
            <a:blip r:embed="rId2"/>
            <a:stretch/>
          </p:blipFill>
          <p:spPr>
            <a:xfrm>
              <a:off x="6477480" y="3429000"/>
              <a:ext cx="1525680" cy="109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Picture 6" descr="AVRDC – The World Vegetable Center — avrdc.org"/>
            <p:cNvPicPr/>
            <p:nvPr/>
          </p:nvPicPr>
          <p:blipFill>
            <a:blip r:embed="rId3"/>
            <a:stretch/>
          </p:blipFill>
          <p:spPr>
            <a:xfrm>
              <a:off x="990720" y="3567600"/>
              <a:ext cx="1967040" cy="8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14" descr=""/>
            <p:cNvPicPr/>
            <p:nvPr/>
          </p:nvPicPr>
          <p:blipFill>
            <a:blip r:embed="rId4"/>
            <a:stretch/>
          </p:blipFill>
          <p:spPr>
            <a:xfrm>
              <a:off x="6477480" y="4800960"/>
              <a:ext cx="1569600" cy="1029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5" name="Picture 9" descr="\\nas\DATA\MMU\1Publishing_service\50YEARS_Anniversary\50YEARS_logos\IITA TAA new logo.png"/>
          <p:cNvPicPr/>
          <p:nvPr/>
        </p:nvPicPr>
        <p:blipFill>
          <a:blip r:embed="rId5"/>
          <a:stretch/>
        </p:blipFill>
        <p:spPr>
          <a:xfrm>
            <a:off x="3200400" y="2432160"/>
            <a:ext cx="19051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840" y="1294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ther Partner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3352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ry of Agriculture, Livestock and Fisheries (MALF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I Hombolo, ARI Chollima/Dakawa; ARI Selian; KATRIN; HORTI-Tenge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FAKA: (ACDI/VOCA, RUDI, FIPS, MVIWATA), private sector (marketing, process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trict local governments and AIC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minata Seeds, Meru Agro, Minjingu Fertilizer C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59706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Background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ID FtF  investments in the Zone of Influ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ing at least 47,000 households with access to the technologies to diversify and increase their food supply and income sources, and improve the quality of degrading smallholder cropland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ing the area under improved production technologies by at least 58,000 h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ing yields of both maize and rice by 50% per unit area as a result of  these technologies being adop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C:\Users\user\AppData\Local\Microsoft\Windows\INetCache\Content.Outlook\76WYE4AT\AR_NAFAKA_Action_Districts_12042016.jpg"/>
          <p:cNvPicPr/>
          <p:nvPr/>
        </p:nvPicPr>
        <p:blipFill>
          <a:blip r:embed="rId1"/>
          <a:stretch/>
        </p:blipFill>
        <p:spPr>
          <a:xfrm>
            <a:off x="685800" y="1219320"/>
            <a:ext cx="75438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MS PGothic"/>
              </a:rPr>
              <a:t>Focus (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MS PGothic"/>
              </a:rPr>
              <a:t>2014-2017</a:t>
            </a: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MS PGothic"/>
              </a:rPr>
              <a:t>)</a:t>
            </a:r>
            <a:endParaRPr b="0" lang="en-US" sz="2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83808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2286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oducing and promoting improved and resilient varieties of food crops (maize, legumes, rice, vegetables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8760" indent="-2286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seminating best-bet agronomic management packages (GAPs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8760" indent="-2286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tecting land and water resources (incl. soil and water management, 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SAS/acidity/salinit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8760" indent="-2286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oducing and promoting postharvest management technologies (bring quality up to market standards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8760" indent="-2286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hancing capacities of local communit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Oval 3"/>
          <p:cNvSpPr/>
          <p:nvPr/>
        </p:nvSpPr>
        <p:spPr>
          <a:xfrm>
            <a:off x="844560" y="3186000"/>
            <a:ext cx="2514600" cy="190512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Oval 4"/>
          <p:cNvSpPr/>
          <p:nvPr/>
        </p:nvSpPr>
        <p:spPr>
          <a:xfrm>
            <a:off x="2092320" y="3200400"/>
            <a:ext cx="2514600" cy="190512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1" name="TextBox 31" descr=""/>
          <p:cNvPicPr/>
          <p:nvPr/>
        </p:nvPicPr>
        <p:blipFill>
          <a:blip r:embed="rId1"/>
          <a:stretch/>
        </p:blipFill>
        <p:spPr>
          <a:xfrm>
            <a:off x="1011240" y="3651120"/>
            <a:ext cx="1066680" cy="920880"/>
          </a:xfrm>
          <a:prstGeom prst="rect">
            <a:avLst/>
          </a:prstGeom>
          <a:ln w="0">
            <a:noFill/>
          </a:ln>
        </p:spPr>
      </p:pic>
      <p:pic>
        <p:nvPicPr>
          <p:cNvPr id="582" name="TextBox 32" descr=""/>
          <p:cNvPicPr/>
          <p:nvPr/>
        </p:nvPicPr>
        <p:blipFill>
          <a:blip r:embed="rId2"/>
          <a:stretch/>
        </p:blipFill>
        <p:spPr>
          <a:xfrm>
            <a:off x="3103560" y="3462480"/>
            <a:ext cx="1449360" cy="798480"/>
          </a:xfrm>
          <a:prstGeom prst="rect">
            <a:avLst/>
          </a:prstGeom>
          <a:ln w="0">
            <a:noFill/>
          </a:ln>
        </p:spPr>
      </p:pic>
      <p:sp>
        <p:nvSpPr>
          <p:cNvPr id="583" name="Rounded Rectangle 33"/>
          <p:cNvSpPr/>
          <p:nvPr/>
        </p:nvSpPr>
        <p:spPr>
          <a:xfrm>
            <a:off x="171468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Donor (USAI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ounded Rectangle 34"/>
          <p:cNvSpPr/>
          <p:nvPr/>
        </p:nvSpPr>
        <p:spPr>
          <a:xfrm>
            <a:off x="1600200" y="5473800"/>
            <a:ext cx="2438280" cy="99036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Benefici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(Smallhol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5" name="Straight Arrow Connector 37"/>
          <p:cNvCxnSpPr/>
          <p:nvPr/>
        </p:nvCxnSpPr>
        <p:spPr>
          <a:xfrm>
            <a:off x="3374640" y="2781360"/>
            <a:ext cx="108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6" name="Straight Arrow Connector 38"/>
          <p:cNvCxnSpPr/>
          <p:nvPr/>
        </p:nvCxnSpPr>
        <p:spPr>
          <a:xfrm>
            <a:off x="2193480" y="2781360"/>
            <a:ext cx="108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7" name="TextBox 39"/>
          <p:cNvSpPr/>
          <p:nvPr/>
        </p:nvSpPr>
        <p:spPr>
          <a:xfrm>
            <a:off x="2181240" y="3825720"/>
            <a:ext cx="1143000" cy="61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MS PGothic"/>
              </a:rPr>
              <a:t>Common mandat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Up-Down Arrow 40"/>
          <p:cNvSpPr/>
          <p:nvPr/>
        </p:nvSpPr>
        <p:spPr>
          <a:xfrm>
            <a:off x="2590920" y="5032440"/>
            <a:ext cx="228600" cy="436320"/>
          </a:xfrm>
          <a:prstGeom prst="upDownArrow">
            <a:avLst>
              <a:gd name="adj1" fmla="val 50000"/>
              <a:gd name="adj2" fmla="val 50120"/>
            </a:avLst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42"/>
          <p:cNvSpPr/>
          <p:nvPr/>
        </p:nvSpPr>
        <p:spPr>
          <a:xfrm>
            <a:off x="4718160" y="1676520"/>
            <a:ext cx="4349520" cy="55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CG centers operate with national research institutions in all s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Work closely with NAFAKA team members; identify others – NGOs, private s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MS PGothic"/>
              </a:rPr>
              <a:t>Leverage resources (N2Africa, private secto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alibri"/>
                <a:ea typeface="MS PGothic"/>
              </a:rPr>
              <a:t>Deepen work with DAICOs especially VAEOS/WAE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GIS for better targ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Communication and coordination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beneficiari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, 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  <a:ea typeface="MS PGothic"/>
              </a:rPr>
              <a:t>partners, </a:t>
            </a:r>
            <a:r>
              <a:rPr b="0" lang="en-US" sz="2000" spc="-1" strike="noStrike">
                <a:solidFill>
                  <a:srgbClr val="1e4abd"/>
                </a:solidFill>
                <a:latin typeface="Calibri"/>
                <a:ea typeface="MS PGothic"/>
              </a:rPr>
              <a:t>donor tea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41"/>
          <p:cNvSpPr/>
          <p:nvPr/>
        </p:nvSpPr>
        <p:spPr>
          <a:xfrm>
            <a:off x="1098720" y="961920"/>
            <a:ext cx="72388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Partnership – arrange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828800" y="7617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Achievements – mid 2017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457200" y="1676520"/>
          <a:ext cx="8153280" cy="4649760"/>
        </p:xfrm>
        <a:graphic>
          <a:graphicData uri="http://schemas.openxmlformats.org/drawingml/2006/table">
            <a:tbl>
              <a:tblPr/>
              <a:tblGrid>
                <a:gridCol w="4114800"/>
                <a:gridCol w="838080"/>
                <a:gridCol w="1219320"/>
                <a:gridCol w="990720"/>
                <a:gridCol w="990360"/>
              </a:tblGrid>
              <a:tr h="8413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Indic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1224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FY 2017 Tar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1224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FY 2017 Achiev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(April 201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1224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LOP tar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1224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LOP  Achieve-ment 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12240">
                      <a:solidFill>
                        <a:srgbClr val="604878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EG.3.2-18: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Number of hectares under improved techn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1224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58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1224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2,9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1224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58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1224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2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1224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</a:tr>
              <a:tr h="64584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EG.3.2-17: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Number of farmers and others who have applied new techn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47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0,3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47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.3.2-1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individuals who have received short-term agricultural sector productivity or food security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,4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6600"/>
                          </a:solidFill>
                          <a:latin typeface="Calibri"/>
                        </a:rPr>
                        <a:t>9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</a:tr>
              <a:tr h="1120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.3.2-4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private enterprises (for profit), producers organizations and associations/organizations benefitting (mostly farmers’ groups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6600"/>
                          </a:solidFill>
                          <a:latin typeface="Calibri"/>
                          <a:ea typeface="Calibr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.3-1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rural households benefiting directly from interven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6600"/>
                          </a:solidFill>
                          <a:latin typeface="Calibri"/>
                        </a:rPr>
                        <a:t>8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ther achiev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38088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thoni, F., Zhe, G., Bekunda, M.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seguya, 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, Kizito, F., Baijukya, F. P. &amp; Hoeschle-Zeledon, I.  (2017). Sustainable recommendation domains for scaling agricultural technologies in Tanzania. </a:t>
            </a:r>
            <a:r>
              <a:rPr b="0" i="1" lang="en-US" sz="2000" spc="-1" strike="noStrike">
                <a:solidFill>
                  <a:srgbClr val="0000ff"/>
                </a:solidFill>
                <a:latin typeface="Calibri"/>
              </a:rPr>
              <a:t>Land use Policy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, 66: 34-4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Gramzow, A.,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Sseguya, 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., Afari-Sefa, V., Bekunda, M. &amp; Lukumay, J.P. Taking agricultural technologies to scale: Experiences from a vegetable technology dissemination initiative in Tanzania. </a:t>
            </a:r>
            <a:r>
              <a:rPr b="0" lang="en-GB" sz="2000" spc="-1" strike="noStrike">
                <a:solidFill>
                  <a:srgbClr val="008000"/>
                </a:solidFill>
                <a:latin typeface="Calibri"/>
              </a:rPr>
              <a:t>Under review: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International Journal of Agricultural Sustainabilit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ther achiev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38088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Sseguya, H.,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ekunda, M., Muthoni, F. &amp; Masigo J. Transfer of training for sustainable intensification in Tanzania: critical considerations for scaling-up. </a:t>
            </a:r>
            <a:r>
              <a:rPr b="0" lang="en-GB" sz="2000" spc="-1" strike="noStrike">
                <a:solidFill>
                  <a:srgbClr val="008000"/>
                </a:solidFill>
                <a:latin typeface="Calibri"/>
              </a:rPr>
              <a:t>Positive review response: 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Journal of Agricultural Science and Technolog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alibri"/>
              </a:rPr>
              <a:t>Training manuals, briefs, broch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7-07-03T05:45:28Z</dcterms:modified>
  <cp:revision>53</cp:revision>
  <dc:subject/>
  <dc:title>PowerPoint Presentation</dc:title>
</cp:coreProperties>
</file>